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tif" ContentType="image/tif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363075" cy="7077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2EFF0E-FB98-4DBD-8828-6AEF35C54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0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339A99-4D10-4DEF-8592-D5C9881B9D55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9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ED9458-AAC5-4346-AA56-E49655D4B726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20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94E2E4-82F2-4E40-9BDE-5079B5E4F78B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913120" y="9216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61080" y="2818440"/>
            <a:ext cx="8712720" cy="4032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21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855CE2-9DA1-4DD3-AE96-21385EE7FFC0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2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04212A-219F-4A69-91BE-ED3B7FB79C93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1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A5773C-6EFB-45D1-879F-C764605A3529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633440" cy="3344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EE9F11-DC92-4A76-9D94-41B95394FBBF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3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9E0D1C-0823-4BE6-9AD3-ECF7105EC2D1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4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24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8B0CE2-61F9-4612-8704-1D0DCE019F48}" type="slidenum">
              <a:rPr b="0" lang="en-CA" sz="2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5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2FDCC0-E20C-45E5-B0C1-0FBEBB6F9FBB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793080" y="4420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583640" y="2818440"/>
            <a:ext cx="7490160" cy="4032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6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900A88-D916-4E9F-BE64-CF374A2FD9FE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7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BA0462-E4ED-4566-967A-7B90490836D0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8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51FA69-857F-455A-AAB1-3E2D59304E01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614-B984-4E37-AA83-645BBE60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78F-7A34-4EB7-AD25-DD54071F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716-6782-49A0-B8CB-F0D01A2F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459-86A3-45D8-B3B6-95A2D2A1E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D7D3-1092-4D64-AB06-7D3A0859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5311-93A2-4FFB-BB95-13EB9A36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CD13-9900-4374-A67E-44E56410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5088-439A-403F-B44A-76052D33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7913-942C-47E4-9330-1F10CD4A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5AB9-3886-4B99-8024-0E359FE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C934-B158-422B-835C-BBFFF0A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645-6959-44EF-AFC1-7425E71C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845D-A6FC-4976-961C-AF00F15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DA98-B4A8-448F-9E93-B597C6D4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5F89-1337-427C-A2B9-ACBD674F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F61A-DF2A-4F95-9F88-7C116348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7832-AB4F-4B59-A0E3-11DE0257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5B0-0575-4206-B2D2-B1D7E4E6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23E-7011-4472-B289-7746D212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41D-8821-44D4-88DD-4AAEFE3D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816-6C09-4401-935C-28EFD1A7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611-77EE-4AF9-8864-D4116E54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610-B40E-4A90-A86B-093A1D5A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558-6A83-4B09-A3D6-BE406DD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C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D3DBBF-1CFC-43F9-93A6-9839F920A3F0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C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4E328F-E172-49E0-B756-9461C3CDEABD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7640" y="105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7200" spc="-1" strike="noStrike">
                <a:solidFill>
                  <a:srgbClr val="000000"/>
                </a:solidFill>
                <a:latin typeface="Calibri"/>
              </a:rPr>
              <a:t>Youth Rights in Canad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640" y="3069000"/>
            <a:ext cx="8229240" cy="7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Julia M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OCASI – the Ontario Council of Agencies Serving Immigra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jmais\Documents\Summer Student\Youth Project\Presentation\mental health.jpg"/>
          <p:cNvPicPr/>
          <p:nvPr/>
        </p:nvPicPr>
        <p:blipFill>
          <a:blip r:embed="rId1"/>
          <a:stretch/>
        </p:blipFill>
        <p:spPr>
          <a:xfrm>
            <a:off x="2195640" y="2129040"/>
            <a:ext cx="5184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ll C-31: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Making Canada's Asylum System Faster and Fairer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mmigrant and Refugee Board (IRB) hea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signated Countri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rregular arrival prov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pporting colleagues in th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llaboration between s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th specific settlement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cognizing context and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99640" y="2925000"/>
            <a:ext cx="69123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Questions/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ulia M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mais@ocasi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11640" y="946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395640" y="1340640"/>
            <a:ext cx="82292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CA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jmais\Downloads\ocasi_logo.png"/>
          <p:cNvPicPr/>
          <p:nvPr/>
        </p:nvPicPr>
        <p:blipFill>
          <a:blip r:embed="rId1"/>
          <a:stretch/>
        </p:blipFill>
        <p:spPr>
          <a:xfrm>
            <a:off x="1160640" y="2061000"/>
            <a:ext cx="672804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 Conv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Rights of the Chi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7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vention details basic human rights that children everywhere hav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right to survival; to develop to the fullest; to protection from harmful influences, abuse and exploitation; and to participate fully in family, cultural and social lif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C:\Users\jmais\Documents\Summer Student\Youth Project\Presentation\normal_kids_classroom.jpg"/>
          <p:cNvPicPr/>
          <p:nvPr/>
        </p:nvPicPr>
        <p:blipFill>
          <a:blip r:embed="rId1"/>
          <a:stretch/>
        </p:blipFill>
        <p:spPr>
          <a:xfrm>
            <a:off x="1835640" y="1989000"/>
            <a:ext cx="556740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secondary education financially prohib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ing in grade schoo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E.S.L. graduation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amily Sepa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jmais\Documents\Summer Student\Youth Project\Presentation\normal_Generic_Father_and_Son.jpg"/>
          <p:cNvPicPr/>
          <p:nvPr/>
        </p:nvPicPr>
        <p:blipFill>
          <a:blip r:embed="rId1"/>
          <a:stretch/>
        </p:blipFill>
        <p:spPr>
          <a:xfrm>
            <a:off x="2051640" y="2133000"/>
            <a:ext cx="498060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7640" y="1845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ccompanied minor unable to include parents and siblings in permanent residency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even sponsorship wait times across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of Live-in Caregivers separated from fami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eal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jmais\Documents\Summer Student\Youth Project\Presentation\sick child.jpg"/>
          <p:cNvPicPr/>
          <p:nvPr/>
        </p:nvPicPr>
        <p:blipFill>
          <a:blip r:embed="rId1"/>
          <a:stretch/>
        </p:blipFill>
        <p:spPr>
          <a:xfrm>
            <a:off x="2051640" y="2061000"/>
            <a:ext cx="5067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7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 and physical health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im Federal Health (IFH) c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IP three month wai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  <Words>166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9:27:32Z</dcterms:created>
  <dc:creator>dmontague</dc:creator>
  <dc:description/>
  <dc:language>en-US</dc:language>
  <cp:lastModifiedBy>Lorraine Hudson</cp:lastModifiedBy>
  <dcterms:modified xsi:type="dcterms:W3CDTF">2013-01-03T20:01:4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13</vt:r8>
  </property>
</Properties>
</file>